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836-A2B6-4DD2-BEBF-A123F2E5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CDA-D450-40E5-A920-FE498125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FAB-9919-482C-8BEA-AB56C95C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148-1C96-4BA8-AEA6-B236F90D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8BF-A0EE-469A-9940-28AE1B37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CCB-09DE-436B-BACC-360F89D9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65F-4DFC-4754-8079-712B3FF9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B9C-2517-4491-9461-6AA69568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B27-A9D4-447A-A5A0-96EF70AF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B15-0DA0-49DD-BA31-911037AA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5A2-98F7-4A4B-87B0-F2553DA6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980-DF65-43A3-B667-DAF0F68A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B56E-82A3-41E0-87F3-30F583AE8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XXX XXX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---</cp:lastModifiedBy>
  <dcterms:modified xsi:type="dcterms:W3CDTF">2008-12-17T10:52:14Z</dcterms:modified>
  <cp:revision>6</cp:revision>
  <dc:subject/>
  <dc:title>Diapositiva 1</dc:title>
</cp:coreProperties>
</file>